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6641-AC8F-4E6D-8632-11C7A083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E951-258B-49D7-B07E-F572814C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BF3A-53D9-4C74-A61A-7A8C5EF7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B82-1252-4FBF-9340-6FED80CA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A902-9031-4132-9AFF-7F844CE2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7350-FCC9-4D67-802A-663707F6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8A8A-E8B7-4B48-B279-ECA469F0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F006-8F1D-4AEE-B5C5-4671D597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F5DA-CBEE-4FF8-BCCF-07EBCB26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2025-AB4C-4E4A-A10D-B80333D5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A3F0-DA7F-436E-8E15-FA13C733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48CA-8A52-4DF7-92FC-CDBF3F1E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835D-8254-4CA6-859C-6E44F716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AAA8-9A3A-47F3-AB74-1ACB1C02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A41E-07BF-4BFA-B246-FFA82B3F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2DA4-5156-4E4C-BE87-A692B2E9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1294-4B48-4E93-9587-441080A97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D52A-FD17-43F6-9AAD-B79E6D8C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58D9-6EA7-41C2-A979-902542CF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90DA-D4D5-4AEA-81C3-F918DA86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5062-A992-4363-9990-7DF38CE7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F368-801A-447D-A2EB-646387F4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DF46-391F-4DE2-8801-96D2063D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2032-850B-496E-8160-044F26D5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484B-517B-494C-AD02-0DDCB531066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085C-DEF4-4F43-B516-111C33C6DF3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0570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d189"/>
                </a:solidFill>
                <a:latin typeface="Arial"/>
              </a:rPr>
              <a:t>Contemporary Issues</a:t>
            </a:r>
            <a:br>
              <a:rPr sz="6000"/>
            </a:b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3428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Ms. Schmidt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267480" indent="-2674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B.S. , M.L.S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267480" indent="-267480">
              <a:spcBef>
                <a:spcPts val="13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Contemporary Issues</a:t>
            </a:r>
            <a:br>
              <a:rPr sz="4800"/>
            </a:br>
            <a:r>
              <a:rPr b="1" lang="en-US" sz="4800" spc="-1" strike="noStrike">
                <a:solidFill>
                  <a:srgbClr val="ebd189"/>
                </a:solidFill>
                <a:latin typeface="Arial"/>
              </a:rPr>
              <a:t>Themes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Media Literac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Effective Citizens &amp; The Political System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Peace and Conflict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Domestic Agend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Technology and Societ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cus Questions for Contemporary Issu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1447920" y="1828800"/>
            <a:ext cx="7696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Narrow"/>
              </a:rPr>
              <a:t>1. What are the implications of living in an increasingly interconnected global economy for the individual?  The U.S.? The rest of the world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cus Questions for Contemporary Issu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1523880" y="1752480"/>
            <a:ext cx="6629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Narrow"/>
              </a:rPr>
              <a:t>2.  What are the pressing international conflicts and issues in the world today, and how can the past be used to increase our understanding about potential solutions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cus Questions for Contemporary Issu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1219320" y="1981080"/>
            <a:ext cx="7391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Narrow"/>
              </a:rPr>
              <a:t>3.  How do societies, including the U.S. construct a foreign policy that reflects their goals, while at the same time balancing their needs with those of other nations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cus Questions for Contemporary Issu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143000" y="2209680"/>
            <a:ext cx="7162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Narrow"/>
              </a:rPr>
              <a:t>4.  What is the impact of cultural diversity in other  countries around the world, and how does it contribute to divisiveness and to opportunities for  cooperation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cus Questions for Contemporary Issu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1295280" y="2057400"/>
            <a:ext cx="7162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Narrow"/>
              </a:rPr>
              <a:t>5.  How does geography influence societies around the world and how do geographic boundaries around the world diverge from cultural, racial, and ethnic realities?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cus Questions for Contemporary Issu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1295280" y="1828800"/>
            <a:ext cx="74678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Narrow"/>
              </a:rPr>
              <a:t>6.  How can students access resources in order to make sense of the complexities of the modern world  and in order to make predictive conclusions?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2:56:09Z</dcterms:created>
  <dc:creator>C114</dc:creator>
  <dc:description/>
  <dc:language>en-US</dc:language>
  <cp:lastModifiedBy> </cp:lastModifiedBy>
  <dcterms:modified xsi:type="dcterms:W3CDTF">2008-01-22T17:58:18Z</dcterms:modified>
  <cp:revision>8</cp:revision>
  <dc:subject/>
  <dc:title>Contemporary Issues Themes</dc:title>
</cp:coreProperties>
</file>